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D54A-268A-4987-869B-5D00DA9E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C573-32E9-49F8-98AB-D51E35D7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9840-3DF8-4C39-9850-C1AC46AD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8911-3271-45CC-AE6E-810BE6FE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EEA8-6F22-48A7-BA9E-901954A9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3BB0-BB50-4F57-853E-B96B41B9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27EB-B29D-46B9-83BB-E21E275D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34D0-7439-47B0-ABFA-DE75BFD7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2A77-2CF3-42BF-9A74-D77EDB33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2DA4-C57E-4EA4-A404-D889E183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C8B5-8C63-4F42-8CA6-B331A9A6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CEDB-844C-4F88-96FA-8A2A28ED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A342-4349-4581-909C-9A4A2DB8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3E33-FB0E-4EBB-B823-84CC6899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AEE7-2BDE-46D0-B83B-E857BC34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B906-8765-4610-ADAE-9EAB717B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456F-936D-4467-A989-157691CA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6BF15-946A-4BEB-9796-A2A4C781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767AF-B6CA-49E2-A7E1-99D57F84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4834A-7AFF-448A-BDCE-092B665A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C913C-0CCF-4EF0-9DFF-61323B5A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1E85F-78C9-4A54-934D-77162E6F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1375-F1C7-41C1-93B9-3430A3C4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3381D-1777-4B6A-95C5-48B17F72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8FD9C-E21E-41C6-925B-2FDD0861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7A7D9-DDE2-4674-8D78-B4ED7542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CB31C-B4AC-4D8D-9A77-525CB68C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FA9EB-CC74-400B-B606-35E06239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3147C-2EDC-4028-869F-B4EC4FF3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62D44-F334-4E7D-8FFB-F3C5A93E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D1393-5115-468C-9801-704DA9DC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621B7-AC47-4804-8357-0F4377E6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70D90-8AE2-482D-B2BA-82E079C7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6877-D828-4439-A211-F95DB6E7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DA59D-ACE2-43A0-9FE2-CEE8E51A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42FB2-E436-4026-B231-A5555F94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B30BB-D653-4C6A-987A-8666547C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1A45A-CFE7-4459-A7C7-8966FFE0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479F0-F1F7-43C4-8E73-25A22C58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8B6BC-16A4-418C-B3E1-8DB80EDB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7254B-BFDF-4022-8D0C-0D281331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FC138-2E10-4ED9-A97E-726D0046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0956E-BE66-4B4C-A5DA-B9344787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E153-EB4E-4AC3-9B2F-673E1893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4A9F-E971-459C-88AE-C4F84762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298C-D4F5-4D9A-BA94-D7614539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ABA8-A9B4-4081-9399-DD35EBA8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3690-F108-4B53-BF34-9EDAB223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A593-0425-4C8F-AC52-F324BCE5AE7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BF1B-9236-41C6-A4A5-8846174CBD6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C69B-D3C7-47CE-8742-218B3326992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A18C-E04C-4DF4-8452-B845760436C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3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30880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aniel Evans and April Lamb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1" descr=""/>
          <p:cNvPicPr/>
          <p:nvPr/>
        </p:nvPicPr>
        <p:blipFill>
          <a:blip r:embed="rId2"/>
          <a:srcRect l="12502" t="19913" r="37503" b="33625"/>
          <a:stretch/>
        </p:blipFill>
        <p:spPr>
          <a:xfrm>
            <a:off x="228600" y="3733920"/>
            <a:ext cx="41148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rcRect l="0" t="0" r="44355" b="0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6"/>
          <p:cNvSpPr/>
          <p:nvPr/>
        </p:nvSpPr>
        <p:spPr>
          <a:xfrm>
            <a:off x="2666880" y="53352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ight click on the Desktop and sel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TI Catalyst(R) Control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Right Arrow 7"/>
          <p:cNvGrpSpPr/>
          <p:nvPr/>
        </p:nvGrpSpPr>
        <p:grpSpPr>
          <a:xfrm>
            <a:off x="2822400" y="1639800"/>
            <a:ext cx="1743120" cy="682560"/>
            <a:chOff x="2822400" y="1639800"/>
            <a:chExt cx="1743120" cy="682560"/>
          </a:xfrm>
        </p:grpSpPr>
        <p:pic>
          <p:nvPicPr>
            <p:cNvPr id="203" name="Right Arrow 7" descr=""/>
            <p:cNvPicPr/>
            <p:nvPr/>
          </p:nvPicPr>
          <p:blipFill>
            <a:blip r:embed="rId2"/>
            <a:stretch/>
          </p:blipFill>
          <p:spPr>
            <a:xfrm>
              <a:off x="2822400" y="1639800"/>
              <a:ext cx="17431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895480" y="1809720"/>
              <a:ext cx="14670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grpSp>
        <p:nvGrpSpPr>
          <p:cNvPr id="208" name="Right Arrow 4"/>
          <p:cNvGrpSpPr/>
          <p:nvPr/>
        </p:nvGrpSpPr>
        <p:grpSpPr>
          <a:xfrm>
            <a:off x="920880" y="2633760"/>
            <a:ext cx="1736640" cy="676080"/>
            <a:chOff x="920880" y="2633760"/>
            <a:chExt cx="1736640" cy="676080"/>
          </a:xfrm>
        </p:grpSpPr>
        <p:pic>
          <p:nvPicPr>
            <p:cNvPr id="209" name="Right Arrow 4" descr=""/>
            <p:cNvPicPr/>
            <p:nvPr/>
          </p:nvPicPr>
          <p:blipFill>
            <a:blip r:embed="rId2"/>
            <a:stretch/>
          </p:blipFill>
          <p:spPr>
            <a:xfrm>
              <a:off x="920880" y="2633760"/>
              <a:ext cx="173664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990720" y="2800440"/>
              <a:ext cx="14666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Box 5"/>
          <p:cNvSpPr/>
          <p:nvPr/>
        </p:nvSpPr>
        <p:spPr>
          <a:xfrm>
            <a:off x="5791320" y="2057400"/>
            <a:ext cx="335268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alibri"/>
              </a:rPr>
              <a:t>Select Advanc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rcRect l="0" t="0" r="44119" b="0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grpSp>
        <p:nvGrpSpPr>
          <p:cNvPr id="215" name="Right Arrow 4"/>
          <p:cNvGrpSpPr/>
          <p:nvPr/>
        </p:nvGrpSpPr>
        <p:grpSpPr>
          <a:xfrm>
            <a:off x="6102360" y="2401920"/>
            <a:ext cx="1736640" cy="682560"/>
            <a:chOff x="6102360" y="2401920"/>
            <a:chExt cx="1736640" cy="682560"/>
          </a:xfrm>
        </p:grpSpPr>
        <p:pic>
          <p:nvPicPr>
            <p:cNvPr id="216" name="Right Arrow 4" descr=""/>
            <p:cNvPicPr/>
            <p:nvPr/>
          </p:nvPicPr>
          <p:blipFill>
            <a:blip r:embed="rId2"/>
            <a:stretch/>
          </p:blipFill>
          <p:spPr>
            <a:xfrm>
              <a:off x="6102360" y="2401920"/>
              <a:ext cx="17366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0800000">
              <a:off x="6305040" y="2571480"/>
              <a:ext cx="14670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Box 5"/>
          <p:cNvSpPr/>
          <p:nvPr/>
        </p:nvSpPr>
        <p:spPr>
          <a:xfrm>
            <a:off x="2529360" y="5181480"/>
            <a:ext cx="412164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Click on 2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Screen  and select “Yes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rcRect l="0" t="0" r="44119" b="0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grpSp>
        <p:nvGrpSpPr>
          <p:cNvPr id="222" name="Right Arrow 4"/>
          <p:cNvGrpSpPr/>
          <p:nvPr/>
        </p:nvGrpSpPr>
        <p:grpSpPr>
          <a:xfrm>
            <a:off x="4803840" y="2249640"/>
            <a:ext cx="1743120" cy="682560"/>
            <a:chOff x="4803840" y="2249640"/>
            <a:chExt cx="1743120" cy="682560"/>
          </a:xfrm>
        </p:grpSpPr>
        <p:pic>
          <p:nvPicPr>
            <p:cNvPr id="223" name="Right Arrow 4" descr=""/>
            <p:cNvPicPr/>
            <p:nvPr/>
          </p:nvPicPr>
          <p:blipFill>
            <a:blip r:embed="rId2"/>
            <a:stretch/>
          </p:blipFill>
          <p:spPr>
            <a:xfrm>
              <a:off x="4803840" y="2249640"/>
              <a:ext cx="17431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 rot="10800000">
              <a:off x="5009760" y="2418840"/>
              <a:ext cx="14670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Box 5"/>
          <p:cNvSpPr/>
          <p:nvPr/>
        </p:nvSpPr>
        <p:spPr>
          <a:xfrm>
            <a:off x="4648320" y="1522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Right Click on Desktop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rcRect l="0" t="0" r="4444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9" name="Right Arrow 4"/>
          <p:cNvGrpSpPr/>
          <p:nvPr/>
        </p:nvGrpSpPr>
        <p:grpSpPr>
          <a:xfrm>
            <a:off x="2975040" y="2481120"/>
            <a:ext cx="1743120" cy="676440"/>
            <a:chOff x="2975040" y="2481120"/>
            <a:chExt cx="1743120" cy="676440"/>
          </a:xfrm>
        </p:grpSpPr>
        <p:pic>
          <p:nvPicPr>
            <p:cNvPr id="230" name="Right Arrow 4" descr=""/>
            <p:cNvPicPr/>
            <p:nvPr/>
          </p:nvPicPr>
          <p:blipFill>
            <a:blip r:embed="rId2"/>
            <a:stretch/>
          </p:blipFill>
          <p:spPr>
            <a:xfrm>
              <a:off x="2975040" y="2481120"/>
              <a:ext cx="174312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3048120" y="2647800"/>
              <a:ext cx="14666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Box 5"/>
          <p:cNvSpPr/>
          <p:nvPr/>
        </p:nvSpPr>
        <p:spPr>
          <a:xfrm>
            <a:off x="2209680" y="5181480"/>
            <a:ext cx="449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Select “Clone Deskto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With digital panel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9:00:20Z</dcterms:created>
  <dc:creator>evansd</dc:creator>
  <dc:description/>
  <dc:language>en-US</dc:language>
  <cp:lastModifiedBy>evansd</cp:lastModifiedBy>
  <dcterms:modified xsi:type="dcterms:W3CDTF">2010-08-11T20:07:41Z</dcterms:modified>
  <cp:revision>16</cp:revision>
  <dc:subject/>
  <dc:title>Slide 1</dc:title>
</cp:coreProperties>
</file>